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DDAE-5504-42A1-B1FB-200537AF7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5097-E8DD-40A9-AE63-5B493BA9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8517A-BCFF-477E-9989-442EEDAE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B4F9E-2435-4785-A7E5-314377F2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8FB2A-A71B-490B-AEA1-D9982FD7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43237-E24F-4971-9302-EAF324BD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21792-979F-4929-BD6B-8A0E4225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E2938-8FBE-41FF-AC57-5A7A0B07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EB397-77F8-42C3-A8B9-6210D07E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33870-6895-4EF9-B95E-4840E87F2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844C8-CC3F-4D92-BE7D-610274B7F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1097CC-E9B1-4649-9E75-BA8330AD7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AAAC-39E0-4F3F-8903-E518CFE97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090EC1-76A1-49DF-8A54-BD72F40F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CF3CF2-D488-4C96-A20A-23C88AC8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83BB87-76C5-432F-B794-8F94E1ED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9284EE-7ECF-4510-83E3-98FE860F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D80624-FD2C-4A26-BECC-C5ED1959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98FB32-4243-4F3E-9AAD-60D9C79E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4832C6-97E5-423D-B164-BF85F01D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8F2EC4-8F40-4FEA-965D-F41C5DE5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4AD92F-12D0-4279-9C37-C092D963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496C3D-BF29-44F9-8ADB-F391D0088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1410-E0E3-4AFB-93B2-89E6C9414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E8F263-48C2-4AE2-A69A-C7000A6DC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7A83-BED7-47CC-8F02-3A9818602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509F-F971-4908-A51E-B75C5871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C179-21CD-42EA-BA77-02842576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8B2F-BB67-4560-8163-4623CDDE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FD8A-682F-4171-A4A7-59C403B0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2E05-67C0-465D-AF44-83C2D13C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061E-E8FE-476F-A805-AD9D0D56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0259-E061-4DCE-BC4F-0E39C274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581B-CD67-4636-8AA1-816745B7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9090-0F65-4CAF-AD86-851B7F56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C02A-0F89-48A3-9BC8-BB01B854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2488-523C-4FA3-BB48-77DEE92FA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B9AC-1918-4BCA-8492-FC4DDD5D2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A5683-2FFC-4DDA-B2CB-F157682B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009DC-EF60-434B-B39B-73A00AC0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535A3-708F-43D8-8213-44AE60EE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05807-4D65-4F98-93CE-2954D6BD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951D1-71DE-42BD-9D7D-E739B3A7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857D-4BC3-47CA-8CA4-3BD0103F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2F529-7441-40B7-A87B-40217178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2EEF9-A65A-4917-B9F7-9823FED0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C494F-4ED4-4402-9E6A-4DAD0FC2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B5041-F141-4F51-9C16-041787A1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571B0-75E4-4408-9F39-161E308F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4308F-BFE4-4872-AECC-143B6F54B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5C7E3-F53A-44B8-8E83-5492B2DBC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DDDC0-2E8F-45DA-92EB-ECDBED6E9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24B5C-55C0-406B-8503-ADF89B69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481FC-6080-4DFA-AA76-48C33370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30FA-B4AF-4900-B8DC-D3B7F5CA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34DDD-5687-4650-96C5-1296573D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26B05-60F8-4412-B09A-161AB1D8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6800B-B185-4C36-997E-BA919A9D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20548-CB12-459E-915C-33888AAF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B0C13-3351-47D4-8A94-BD9594A1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A2558-9EF8-451F-8369-6E1906E2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438D2-05BB-4506-A006-D012DA44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C4173-DC39-4E32-8DD9-7EFA0FB72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3A497-E399-4625-966D-0882805E1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679E3-99F4-45AB-B3B3-0FCC1D1F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40B0-C79B-4E11-8AB1-70CAC820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FBE12-C218-404C-AE5D-7A167AB8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5E69D-5A71-43EF-A6BB-4F5273F2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B3881-FD1A-4554-BE38-B4778913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3944A-F1C4-4DA6-AC95-3F2F04A4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FA69F-F697-4EBD-817C-A5C420E6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9E319-9570-4528-8349-7032B62F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F1494-18FF-4D22-A0E9-6B7564D1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80875-E750-4407-B62A-65915358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F1843-5E87-4B09-A1BB-4D7A43CA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9A5A3-2C3D-4E59-9E33-B9F6D40B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0A1B-DB2D-402C-B086-D1E94BFB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41060-537E-4575-B62E-1F2D3DFD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242E5-3C6E-4CF8-8AE8-9515CDC8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F58FD-4878-4057-AA9F-4B65F524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91E66-4D26-4A1F-A071-9EADD420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78891-AB23-4E93-9091-B23AA668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F8658-539B-47B0-9517-0EAFB883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D0604-E6D6-49BB-AA7F-882BF47D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9C266-36F0-4FDA-BC0D-2CF0CF7A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BF39A-D5D7-4D1C-8C75-CE850A8F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3959F-6401-41BA-B21A-6C88E6DF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CC69-9A2B-4F26-A2E4-4ED4B30D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2D03C-2D98-495C-8E40-BF04A425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57126-3600-4CA2-9DE1-5128DED4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63C94-38B6-4CE5-82D2-F657C20B3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D2FDBF-335E-4F39-B791-A8878BDE4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6B3118-6962-4A29-BD9C-73CD444D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BF1EAD-BE39-46E0-9B04-B8FAAEC5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EE69A1-06D9-419D-88B2-B9687692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854DD5-09D8-4758-97B0-0B23A6AC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7D62C9-AE5F-42BE-97C0-7CD558CD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20606A-0FAB-4147-B89D-C2B41BCE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7C56-65A6-4C04-865C-50B8C0E9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986E29-D4D0-44E0-8D3D-05EF6359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AEA4CD-46DD-4892-8F83-1827C943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2050CE-317A-434C-9A40-4129357F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338A8B-31B9-4833-8B57-ABA839B37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B3BC51-ACAE-4046-9BE8-238A25EEE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CCB0B-1373-40F1-94E6-568EC0ED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AF60D-5356-4A2D-BD9F-132DA985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EA168-257F-4E08-B863-1F091EA0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8B17C-E240-43B6-A907-01FD77AD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3778E-5CE8-40F5-BC2A-25AF9F8D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3A4C-3147-46ED-AD68-62F7742D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0696B-2AD0-4B51-981F-9D2BDE12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B6805-8970-41CC-81E6-871B5BDD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350B1-B315-4404-AF42-6F783091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F4B82-D4F2-478F-A81E-747774B3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38793-0D93-41A4-98DF-BA9BAED0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D938B-D3D6-410E-A924-050D5A141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4CBA0-CAA7-4C93-963B-0F7C3E00E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28324-CA1B-4D28-8D53-42F578EC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E269C-C29A-4A24-A63B-3A934AA4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73B96-463E-4F98-BCB0-214ABD1F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1EDD-57E7-47FF-8869-0944757133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CB96-BD03-4870-BE0D-0E8016D782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F39A-EC60-4131-8BA2-74B456F914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9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4587-B5B7-4533-94A8-F749925A5E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05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07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1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5052-9804-4688-B659-5CB3EADFBD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1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1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1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1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2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2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6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7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7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8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EAED-CD4B-463E-A5C9-FE124B9B675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8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8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9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9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9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9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0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0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0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1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1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1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2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2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3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3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3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4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4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4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5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5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5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6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6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6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6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7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7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7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7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8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8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8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9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9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9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0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F9EC-2F32-4940-A7E5-195D2F39EF10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5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99BE-3AF3-4017-8052-31E1B65B96A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2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2A68-C030-497D-8EAA-C75C9CF10A3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468F-F050-4B80-A575-064D8E4363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72;&#1075;&#1076;&#1072;&#1076;" TargetMode="External"/><Relationship Id="rId2" Type="http://schemas.openxmlformats.org/officeDocument/2006/relationships/hyperlink" Target="http://ru.wikipedia.org/wiki/10_&#1089;&#1077;&#1085;&#1090;&#1103;&#1073;&#1088;&#1103;" TargetMode="External"/><Relationship Id="rId3" Type="http://schemas.openxmlformats.org/officeDocument/2006/relationships/hyperlink" Target="http://ru.wikipedia.org/wiki/14_&#1089;&#1077;&#1085;&#1090;&#1103;&#1073;&#1088;&#1103;" TargetMode="External"/><Relationship Id="rId4" Type="http://schemas.openxmlformats.org/officeDocument/2006/relationships/hyperlink" Target="http://ru.wikipedia.org/wiki/1960" TargetMode="External"/><Relationship Id="rId5" Type="http://schemas.openxmlformats.org/officeDocument/2006/relationships/hyperlink" Target="http://ru.wikipedia.org/wiki/&#1048;&#1088;&#1072;&#1085;" TargetMode="External"/><Relationship Id="rId6" Type="http://schemas.openxmlformats.org/officeDocument/2006/relationships/hyperlink" Target="http://ru.wikipedia.org/wiki/&#1048;&#1088;&#1072;&#1082;" TargetMode="External"/><Relationship Id="rId7" Type="http://schemas.openxmlformats.org/officeDocument/2006/relationships/hyperlink" Target="http://ru.wikipedia.org/wiki/&#1050;&#1091;&#1074;&#1077;&#1081;&#1090;" TargetMode="External"/><Relationship Id="rId8" Type="http://schemas.openxmlformats.org/officeDocument/2006/relationships/hyperlink" Target="http://ru.wikipedia.org/wiki/&#1057;&#1072;&#1091;&#1076;&#1086;&#1074;&#1089;&#1082;&#1072;&#1103;_&#1040;&#1088;&#1072;&#1074;&#1080;&#1103;" TargetMode="External"/><Relationship Id="rId9" Type="http://schemas.openxmlformats.org/officeDocument/2006/relationships/hyperlink" Target="http://ru.wikipedia.org/wiki/&#1042;&#1077;&#1085;&#1077;&#1089;&#1091;&#1101;&#1083;&#1072;" TargetMode="External"/><Relationship Id="rId10" Type="http://schemas.openxmlformats.org/officeDocument/2006/relationships/hyperlink" Target="http://ru.wikipedia.org/wiki/&#1050;&#1072;&#1090;&#1072;&#1088;" TargetMode="External"/><Relationship Id="rId11" Type="http://schemas.openxmlformats.org/officeDocument/2006/relationships/hyperlink" Target="http://ru.wikipedia.org/wiki/1961" TargetMode="External"/><Relationship Id="rId12" Type="http://schemas.openxmlformats.org/officeDocument/2006/relationships/hyperlink" Target="http://ru.wikipedia.org/wiki/&#1048;&#1085;&#1076;&#1086;&#1085;&#1077;&#1079;&#1080;&#1103;" TargetMode="External"/><Relationship Id="rId13" Type="http://schemas.openxmlformats.org/officeDocument/2006/relationships/hyperlink" Target="http://ru.wikipedia.org/wiki/1962" TargetMode="External"/><Relationship Id="rId14" Type="http://schemas.openxmlformats.org/officeDocument/2006/relationships/hyperlink" Target="http://ru.wikipedia.org/wiki/2008" TargetMode="External"/><Relationship Id="rId15" Type="http://schemas.openxmlformats.org/officeDocument/2006/relationships/hyperlink" Target="http://ru.wikipedia.org/wiki/&#1051;&#1080;&#1074;&#1080;&#1103;" TargetMode="External"/><Relationship Id="rId16" Type="http://schemas.openxmlformats.org/officeDocument/2006/relationships/hyperlink" Target="http://ru.wikipedia.org/wiki/1962" TargetMode="External"/><Relationship Id="rId17" Type="http://schemas.openxmlformats.org/officeDocument/2006/relationships/hyperlink" Target="http://ru.wikipedia.org/wiki/&#1054;&#1073;&#1098;&#1077;&#1076;&#1080;&#1085;&#1105;&#1085;&#1085;&#1099;&#1077;_&#1040;&#1088;&#1072;&#1073;&#1089;&#1082;&#1080;&#1077;_&#1069;&#1084;&#1080;&#1088;&#1072;&#1090;&#1099;" TargetMode="External"/><Relationship Id="rId18" Type="http://schemas.openxmlformats.org/officeDocument/2006/relationships/hyperlink" Target="http://ru.wikipedia.org/wiki/1967" TargetMode="External"/><Relationship Id="rId19" Type="http://schemas.openxmlformats.org/officeDocument/2006/relationships/hyperlink" Target="http://ru.wikipedia.org/wiki/&#1040;&#1083;&#1078;&#1080;&#1088;" TargetMode="External"/><Relationship Id="rId20" Type="http://schemas.openxmlformats.org/officeDocument/2006/relationships/hyperlink" Target="http://ru.wikipedia.org/wiki/1969" TargetMode="External"/><Relationship Id="rId21" Type="http://schemas.openxmlformats.org/officeDocument/2006/relationships/hyperlink" Target="http://ru.wikipedia.org/wiki/&#1053;&#1080;&#1075;&#1077;&#1088;&#1080;&#1103;" TargetMode="External"/><Relationship Id="rId22" Type="http://schemas.openxmlformats.org/officeDocument/2006/relationships/hyperlink" Target="http://ru.wikipedia.org/wiki/1971" TargetMode="External"/><Relationship Id="rId23" Type="http://schemas.openxmlformats.org/officeDocument/2006/relationships/hyperlink" Target="http://ru.wikipedia.org/wiki/&#1069;&#1082;&#1074;&#1072;&#1076;&#1086;&#1088;" TargetMode="External"/><Relationship Id="rId24" Type="http://schemas.openxmlformats.org/officeDocument/2006/relationships/hyperlink" Target="http://ru.wikipedia.org/wiki/1973" TargetMode="External"/><Relationship Id="rId25" Type="http://schemas.openxmlformats.org/officeDocument/2006/relationships/hyperlink" Target="http://ru.wikipedia.org/wiki/1992" TargetMode="External"/><Relationship Id="rId26" Type="http://schemas.openxmlformats.org/officeDocument/2006/relationships/hyperlink" Target="http://ru.wikipedia.org/wiki/2007" TargetMode="External"/><Relationship Id="rId27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очему организация ОПЕК стала одним из главных участников мирового рынка нефти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1835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упров Сем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.Усть-Циль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сть-Цилемская СОШ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009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Цели моей работ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в каком году появилась ОП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когда и какие страны присоединялись уже к действующей организ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Задачи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вить как долго существует ОП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вить когда присоединились остальные страны этой организ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ОПЕК как постоянно действующая организация была создана на конференции в 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Багдаде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 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10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—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14 сентября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 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1960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. Первоначально в состав организации вошли 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5"/>
              </a:rPr>
              <a:t>Иран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, 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6"/>
              </a:rPr>
              <a:t>Ирак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, 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7"/>
              </a:rPr>
              <a:t>Кувейт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, 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8"/>
              </a:rPr>
              <a:t>Саудовская Аравия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 и 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9"/>
              </a:rPr>
              <a:t>Венесуэла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 (инициатор создания). К этим пяти странам, основавшим организацию, позднее присоединились ещё девять: 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10"/>
              </a:rPr>
              <a:t>Катар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 (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11"/>
              </a:rPr>
              <a:t>1961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), 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12"/>
              </a:rPr>
              <a:t>Индонезия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 (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13"/>
              </a:rPr>
              <a:t>1962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—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14"/>
              </a:rPr>
              <a:t>2008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, 1 ноября 2008 г. вышла из состава ОПЕК), 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15"/>
              </a:rPr>
              <a:t>Ливия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 (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16"/>
              </a:rPr>
              <a:t>1962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), 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17"/>
              </a:rPr>
              <a:t>Объединённые Арабские Эмираты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 (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18"/>
              </a:rPr>
              <a:t>1967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), 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19"/>
              </a:rPr>
              <a:t>Алжир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 (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20"/>
              </a:rPr>
              <a:t>1969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), 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21"/>
              </a:rPr>
              <a:t>Нигерия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 (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22"/>
              </a:rPr>
              <a:t>1971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), 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23"/>
              </a:rPr>
              <a:t>Эквадор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 (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24"/>
              </a:rPr>
              <a:t>1973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—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25"/>
              </a:rPr>
              <a:t>1992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, 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  <a:hlinkClick r:id="rId26"/>
              </a:rPr>
              <a:t>2007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), Габон (1975—1994), Ангола (2007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В результате организация ОПЕК объединила 13 стран  и стала одним из главных участников мирового рынка нефт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писок литератур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http://ru.wikipedia.org/wiki/%D0%9E%D0%9F%D0%95%D0%9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3:28:10Z</dcterms:created>
  <dc:creator>07114</dc:creator>
  <dc:description/>
  <dc:language>en-US</dc:language>
  <cp:lastModifiedBy>07114</cp:lastModifiedBy>
  <dcterms:modified xsi:type="dcterms:W3CDTF">2009-11-27T07:46:10Z</dcterms:modified>
  <cp:revision>5</cp:revision>
  <dc:subject/>
  <dc:title>Как долго существует ОПЕК?</dc:title>
</cp:coreProperties>
</file>